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18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"/>
          </p:nvPr>
        </p:nvSpPr>
        <p:spPr>
          <a:xfrm>
            <a:off x="38844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2"/>
          </p:nvPr>
        </p:nvSpPr>
        <p:spPr>
          <a:xfrm>
            <a:off x="-18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3"/>
          </p:nvPr>
        </p:nvSpPr>
        <p:spPr>
          <a:xfrm>
            <a:off x="38844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802E146-ED63-40C6-94BE-02EBC8C910B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2793960" y="8682120"/>
            <a:ext cx="12704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DE9C157-B654-412E-B083-907F82FBE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Img"/>
          </p:nvPr>
        </p:nvSpPr>
        <p:spPr>
          <a:xfrm>
            <a:off x="1158480" y="692280"/>
            <a:ext cx="4538520" cy="340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A2175EA-F77F-4F05-96FB-5C5A6E48669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4120" cy="2043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172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3EBDC6C-8AC5-4D70-BB58-6E8044CBDDD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4120" cy="2043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172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902E768-F94A-4F7D-81AA-746893D38DA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962000" y="617400"/>
            <a:ext cx="2722680" cy="20415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172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8E1A660-0C02-4959-BC90-8283AC69FAA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4120" cy="2043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172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2989F3E-707E-4DD9-9F1D-248B854375A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4120" cy="2043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172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689AD70-AA2F-4C4C-AB3F-F321BBEFB22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4120" cy="2043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172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24DB3BA-4DC3-4287-BA5B-F00C288C77C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4120" cy="2043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172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0132911-19C8-4DF7-9600-7223FB2141D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4120" cy="2043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172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370FB5E-65F8-44A9-A174-4BA3515086D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4120" cy="2043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172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44D43D6-8A2D-43DA-881D-77E7859E172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4120" cy="2043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172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03814CA-0D79-47E1-B328-5037957C636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960560" y="615960"/>
            <a:ext cx="2722680" cy="20415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564840" y="2781000"/>
            <a:ext cx="5737320" cy="5798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EA2C7E2-ED4B-4781-ADBC-7E6641E2327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914400" y="4328640"/>
            <a:ext cx="5029200" cy="4102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240" bIns="4824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structor describes exercis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udents describe, in writing, their view of software development their organiza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ral volunteers are asked to read their view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ass engages in short discuss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ne instructor facilitates the discuss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ther instructor observes and records the class attitude, experience, and plans concerning software development at the organiza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ass written comments are collected and saved for conclusion lectur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5BDA268-51BA-45EF-B855-09B6F1DDD94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936800" y="598320"/>
            <a:ext cx="2774880" cy="2081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B222752-A3D5-41A2-8B99-AD3A0BD5AAD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7600" cy="34196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30440"/>
            <a:ext cx="5486400" cy="41036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om the perspective of the individual achieving a certification, there are four interrelated reasons why individuals want to attain a certification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rease in knowledge or skil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rease in presti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rease in marketabilit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rease in compensa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viously, by virtue of going through the educational process and completing the knowledge and/or skill demonstration required by a certification, the individual will have gained in knowledge and/or skill. From an interpersonal standpoint, this designation should translate into higher levels of prestige within the individual’s profession. But, perhaps more importantly from the individual’s perspective, the attainment of a certification and the accompanying acknowledgement of knowledge and/or skills acquired should translate into increased ability to move within the profession either laterally within or between organizations or vertically to higher-level positions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nally, with the attainment of a certification and the acknowledgement of knowledge and skills acquired a justification for increases in compensation exists. And, in fact, most organization, recognize that the attainment of the better known and more applicable certifications do translate into increases in compensation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B0EBAAB-3599-4CF4-AFCD-6C68A6DF3EA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936800" y="598320"/>
            <a:ext cx="2774880" cy="2081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4998187-873D-48DE-B97C-88B9458F38A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4120" cy="2043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172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0424091-117A-4249-A5B1-BAF6290F979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4120" cy="2043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172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DC4DA32-25B6-4E63-B185-6E90A4217C6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4120" cy="2043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172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DB93-C913-41B9-892C-E9D7C8D35589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3432-1864-4603-A08F-14DE1C527E4B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0B88-4026-4CB6-B683-A7057AB986CA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1EE7-C2D0-4E62-90CE-8AAEDD35B08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Placeholder 5" descr=""/>
          <p:cNvPicPr/>
          <p:nvPr/>
        </p:nvPicPr>
        <p:blipFill>
          <a:blip r:embed="rId3"/>
          <a:stretch/>
        </p:blipFill>
        <p:spPr>
          <a:xfrm>
            <a:off x="6059520" y="0"/>
            <a:ext cx="3084480" cy="63752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5"/>
          <p:cNvSpPr/>
          <p:nvPr/>
        </p:nvSpPr>
        <p:spPr>
          <a:xfrm>
            <a:off x="0" y="-17640"/>
            <a:ext cx="6059520" cy="640080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6"/>
          <p:cNvSpPr/>
          <p:nvPr/>
        </p:nvSpPr>
        <p:spPr>
          <a:xfrm>
            <a:off x="380880" y="5492880"/>
            <a:ext cx="478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rnegie Mellon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ittsburgh, PA  152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8" descr=""/>
          <p:cNvPicPr/>
          <p:nvPr/>
        </p:nvPicPr>
        <p:blipFill>
          <a:blip r:embed="rId4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3"/>
          <p:cNvSpPr/>
          <p:nvPr/>
        </p:nvSpPr>
        <p:spPr>
          <a:xfrm>
            <a:off x="4413240" y="6411960"/>
            <a:ext cx="2060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Personal Software Process 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for Engineers: Part 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0"/>
          <p:cNvSpPr/>
          <p:nvPr/>
        </p:nvSpPr>
        <p:spPr>
          <a:xfrm>
            <a:off x="6085080" y="6450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[Distribution Statement A] Approved for public release an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unlimited distributio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C695-9B4C-426C-85CE-67FF032A822B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0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93CE-1628-4EC4-8FD4-4714DFB96EF8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3"/>
          <a:stretch/>
        </p:blipFill>
        <p:spPr>
          <a:xfrm>
            <a:off x="11160" y="1098720"/>
            <a:ext cx="3227400" cy="52416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6EA8-12ED-4FE5-99E2-AB4414E3299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ersonal Software Process for Engineers: Part 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December,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98F3-C87D-4006-BA69-7C9855B1B7A8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6157800" y="651348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[Distribution Statement A] Approved for public release and unlimited distributio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0" y="-17640"/>
            <a:ext cx="9144000" cy="635508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6" descr=""/>
          <p:cNvPicPr/>
          <p:nvPr/>
        </p:nvPicPr>
        <p:blipFill>
          <a:blip r:embed="rId3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3"/>
          <p:cNvSpPr/>
          <p:nvPr/>
        </p:nvSpPr>
        <p:spPr>
          <a:xfrm>
            <a:off x="4184640" y="6408720"/>
            <a:ext cx="201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Title of the Presentation Goes He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8"/>
          <p:cNvSpPr/>
          <p:nvPr/>
        </p:nvSpPr>
        <p:spPr>
          <a:xfrm>
            <a:off x="5724360" y="6411960"/>
            <a:ext cx="341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[DISTRIBUTION STATEMENT A] This material has been approved for public release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unlimited distributio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© 2006 by Carnegie Mellon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4122720" y="6567480"/>
            <a:ext cx="9874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tober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ittsburgh, PA 15213-38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9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P I - Introduction to PSP and TSP - </a:t>
            </a:r>
            <a:fld id="{688C4491-FD6E-4BA9-804A-8C201E777FF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Intro%20EX.doc" TargetMode="External"/><Relationship Id="rId2" Type="http://schemas.openxmlformats.org/officeDocument/2006/relationships/hyperlink" Target="file:///L1%20Introduction%20to%20PSP.ppt" TargetMode="External"/><Relationship Id="rId3" Type="http://schemas.openxmlformats.org/officeDocument/2006/relationships/hyperlink" Target="file:///Using%20PSP0.ppt" TargetMode="External"/><Relationship Id="rId4" Type="http://schemas.openxmlformats.org/officeDocument/2006/relationships/hyperlink" Target="file:///ASGKIT%20PROG1.doc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../Week1Day2/L2%20Process%20Measurement.ppt" TargetMode="External"/><Relationship Id="rId2" Type="http://schemas.openxmlformats.org/officeDocument/2006/relationships/hyperlink" Target="file:///../Week1Day2/ASGKIT%20Counting%20Std.doc" TargetMode="External"/><Relationship Id="rId3" Type="http://schemas.openxmlformats.org/officeDocument/2006/relationships/hyperlink" Target="file:///../Week1Day2/ASGKIT%20Coding%20Std.doc" TargetMode="External"/><Relationship Id="rId4" Type="http://schemas.openxmlformats.org/officeDocument/2006/relationships/hyperlink" Target="file:///../Week1Day2/Using%20PSP0.1.ppt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0"/>
          <p:cNvSpPr/>
          <p:nvPr/>
        </p:nvSpPr>
        <p:spPr>
          <a:xfrm>
            <a:off x="1028880" y="1965240"/>
            <a:ext cx="634176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Personal Software Proces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for Engineers: Part 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Narrow"/>
              </a:rPr>
              <a:t>Course Overview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1"/>
          <p:cNvSpPr/>
          <p:nvPr/>
        </p:nvSpPr>
        <p:spPr>
          <a:xfrm>
            <a:off x="5216040" y="1976400"/>
            <a:ext cx="267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695"/>
                </a:solidFill>
                <a:latin typeface="Arial"/>
              </a:rPr>
              <a:t>SM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80920" y="88416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ctor Availab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72640" y="1550520"/>
            <a:ext cx="7559640" cy="29466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ructors will be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ring class hours each 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ter class by phone or e-ma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68320" y="88416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ct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865080" y="1541160"/>
            <a:ext cx="7880400" cy="41878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s learn the PSP 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ting the assigned rea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ending the class lectures, tutorials, and worksho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ting the assign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should plan to spend two weeks of classroom time and a few additional days outside the class to complete the cour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student is expected to make this commit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80920" y="88416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und Rules for Cla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923400" y="1525320"/>
            <a:ext cx="7891560" cy="49179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1000"/>
          </a:bodyPr>
          <a:p>
            <a:pPr marL="381240" indent="-3812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here on time; we will start on time each da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1240" indent="-3812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1240" indent="-3812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end all sessions; discuss any exceptions with instructo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1240" indent="-3812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1240" indent="-3812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ep this room a “quiet zone” during lab periods; move conversations outsi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1240" indent="-3812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1240" indent="-3812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must use the PSP techniques/methods on the assignments.  Your goal is to learn the process, not just to write progra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1240" indent="-3812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1240" indent="-3812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n in assignments that are correct, complete, and in the proper ord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rse Agenda - Week 1 Day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017720" y="1709640"/>
          <a:ext cx="7413480" cy="3443400"/>
        </p:xfrm>
        <a:graphic>
          <a:graphicData uri="http://schemas.openxmlformats.org/drawingml/2006/table">
            <a:tbl>
              <a:tblPr/>
              <a:tblGrid>
                <a:gridCol w="1168200"/>
                <a:gridCol w="6245280"/>
              </a:tblGrid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ental breakf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820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se overview and </a:t>
                      </a:r>
                      <a:r>
                        <a:rPr b="0" lang="en-US" sz="2000" spc="-1" strike="noStrike" u="sng">
                          <a:solidFill>
                            <a:srgbClr val="0a50e1"/>
                          </a:solidFill>
                          <a:uFillTx/>
                          <a:latin typeface="Arial"/>
                          <a:hlinkClick r:id="rId1"/>
                        </a:rPr>
                        <a:t>introductory exerc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a50e1"/>
                          </a:solidFill>
                          <a:uFillTx/>
                          <a:latin typeface="Arial"/>
                          <a:hlinkClick r:id="rId2"/>
                        </a:rPr>
                        <a:t>L1. Introduction to the PSP and TS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2312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s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 u="sng">
                          <a:solidFill>
                            <a:srgbClr val="0a50e1"/>
                          </a:solidFill>
                          <a:uFillTx/>
                          <a:latin typeface="Arial"/>
                          <a:hlinkClick r:id="rId3"/>
                        </a:rPr>
                        <a:t>Using PSP0 tuto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 u="sng">
                          <a:solidFill>
                            <a:srgbClr val="0a50e1"/>
                          </a:solidFill>
                          <a:uFillTx/>
                          <a:latin typeface="Arial"/>
                          <a:hlinkClick r:id="rId4"/>
                        </a:rPr>
                        <a:t>Program 1 assig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224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session (continu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rse Agenda - Week 1 Day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017720" y="1709640"/>
          <a:ext cx="7413480" cy="3875040"/>
        </p:xfrm>
        <a:graphic>
          <a:graphicData uri="http://schemas.openxmlformats.org/drawingml/2006/table">
            <a:tbl>
              <a:tblPr/>
              <a:tblGrid>
                <a:gridCol w="1168200"/>
                <a:gridCol w="6245280"/>
              </a:tblGrid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ental breakf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a50e1"/>
                          </a:solidFill>
                          <a:uFillTx/>
                          <a:latin typeface="Arial"/>
                          <a:hlinkClick r:id="rId1"/>
                        </a:rPr>
                        <a:t>L2. Process measur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3296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s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 u="sng">
                          <a:solidFill>
                            <a:srgbClr val="0a50e1"/>
                          </a:solidFill>
                          <a:uFillTx/>
                          <a:latin typeface="Arial"/>
                          <a:hlinkClick r:id="rId2"/>
                        </a:rPr>
                        <a:t>Size counting standard assig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 u="sng">
                          <a:solidFill>
                            <a:srgbClr val="0a50e1"/>
                          </a:solidFill>
                          <a:uFillTx/>
                          <a:latin typeface="Arial"/>
                          <a:hlinkClick r:id="rId3"/>
                        </a:rPr>
                        <a:t>Coding standard assig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 u="sng">
                          <a:solidFill>
                            <a:srgbClr val="0a50e1"/>
                          </a:solidFill>
                          <a:uFillTx/>
                          <a:latin typeface="Arial"/>
                          <a:hlinkClick r:id="rId4"/>
                        </a:rPr>
                        <a:t>Using PSP0.1 tuto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2 assig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session (continu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rse Agenda - Week 1 Day 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017720" y="1709640"/>
          <a:ext cx="7413480" cy="3702240"/>
        </p:xfrm>
        <a:graphic>
          <a:graphicData uri="http://schemas.openxmlformats.org/drawingml/2006/table">
            <a:tbl>
              <a:tblPr/>
              <a:tblGrid>
                <a:gridCol w="1168200"/>
                <a:gridCol w="6245280"/>
              </a:tblGrid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ental breakf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ata feedb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3. Estimating with PROBE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2312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s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ing PSP1 tuto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3 assig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session (continu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rse Agenda - Week 1 Day 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017720" y="1709640"/>
          <a:ext cx="7413480" cy="3498840"/>
        </p:xfrm>
        <a:graphic>
          <a:graphicData uri="http://schemas.openxmlformats.org/drawingml/2006/table">
            <a:tbl>
              <a:tblPr/>
              <a:tblGrid>
                <a:gridCol w="1168200"/>
                <a:gridCol w="6245280"/>
              </a:tblGrid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ental breakf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ata feedb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4. Estimating with PROBE 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2312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s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ing PSP1.1 tuto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4 assig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session (continu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rse Agenda - Week 1 Day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1017720" y="1709640"/>
          <a:ext cx="7413480" cy="4324320"/>
        </p:xfrm>
        <a:graphic>
          <a:graphicData uri="http://schemas.openxmlformats.org/drawingml/2006/table">
            <a:tbl>
              <a:tblPr/>
              <a:tblGrid>
                <a:gridCol w="1168200"/>
                <a:gridCol w="6245280"/>
              </a:tblGrid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ental breakf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ata feedb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5. Using PSP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2312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s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im report assig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and code review checklists assig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session (continu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se feedback and eval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: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ou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-Course Home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ssign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te unfinished program assign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im re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and code review checklists assig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-reading for week 2: Chapters 8 to 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-Course Sche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1017720" y="1709640"/>
          <a:ext cx="7413480" cy="2649600"/>
        </p:xfrm>
        <a:graphic>
          <a:graphicData uri="http://schemas.openxmlformats.org/drawingml/2006/table">
            <a:tbl>
              <a:tblPr/>
              <a:tblGrid>
                <a:gridCol w="2471760"/>
                <a:gridCol w="2469960"/>
                <a:gridCol w="2471760"/>
              </a:tblGrid>
              <a:tr h="687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ssig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stimated 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5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im re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12 h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list assig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h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-reading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week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10 h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80920" y="82044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885960" y="1550880"/>
            <a:ext cx="8007120" cy="47102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1840" bIns="5184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ructor introdu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rse logistics and building faci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 introdu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me and orga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rse expec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guage you will 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81000" y="89028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004760" y="168408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he “Question/Comment” sheet to describe your view of software development issues and problems in your organiz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ter you finish your responses, we will have a class discussion about software development in your organiz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4360320" y="5884920"/>
            <a:ext cx="209664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90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 "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10 minu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3554280" y="5597640"/>
            <a:ext cx="64944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68320" y="8712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 Course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775800" y="1562040"/>
            <a:ext cx="7851960" cy="42926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114480" indent="-144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is a software process course.  The objectives are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roduce you to a process-based approach to developing softw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w you how to measure and analyze your personal software process (PS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w you how to use process data to improve your personal performa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w you how to apply these methods to other structured tas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0" y="1136520"/>
            <a:ext cx="4103640" cy="529452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06200" y="9666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I-Certified PSP Develop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801600" y="1747800"/>
            <a:ext cx="479268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I-certified professionals will realize an increas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9880" indent="-185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and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9880" indent="-185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ti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9880" indent="-185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9880" indent="-185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9880" indent="-185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n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552840" y="4273200"/>
            <a:ext cx="5216400" cy="1662120"/>
          </a:xfrm>
          <a:prstGeom prst="rect">
            <a:avLst/>
          </a:prstGeom>
          <a:solidFill>
            <a:srgbClr val="dfdbcb"/>
          </a:solidFill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ly or wrongly, companies place a value on certification, and it will up your salary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4440" indent="-166320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ormation We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pril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55360" y="858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 Course In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885600" y="1577880"/>
            <a:ext cx="7559640" cy="45849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8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requisi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must know a programming langua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should have completed the pre-re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ful backgro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miliarity with basic stat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read simple formal no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i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ailable development environ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soft Word, Excel and Access cap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55360" y="8712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rse Top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852120" y="1528920"/>
            <a:ext cx="3630600" cy="41256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SP Part I: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roduction to the PSP and TS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measur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ing with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E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ing with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E I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PSP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203440" y="1539720"/>
            <a:ext cx="3660840" cy="45086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SP Part II: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ftware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-machine design and ver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ver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the PS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55360" y="858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rse Stru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83800" y="1525320"/>
            <a:ext cx="7559640" cy="4305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-course reading assig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ical course 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cture:  review key topics from textbo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or report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t-course home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80920" y="8712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 Evalu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78040" y="1619280"/>
            <a:ext cx="7664400" cy="36720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actors that affect your evaluation 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quality of the data that you subm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mpleteness and consistency of your resul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herence to the proper order and format of assignment submi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r analysis of your PS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0:13:49Z</dcterms:modified>
  <cp:revision>134</cp:revision>
  <dc:subject/>
  <dc:title>No Slide Title</dc:title>
</cp:coreProperties>
</file>